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jpeg" ContentType="image/jpeg"/>
  <Override PartName="/ppt/media/image21.gif" ContentType="image/gif"/>
  <Override PartName="/ppt/media/image1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gif" ContentType="image/gif"/>
  <Override PartName="/ppt/media/image27.jpeg" ContentType="image/jpeg"/>
  <Override PartName="/ppt/media/image5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36.gif" ContentType="image/gif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55.gif" ContentType="image/gif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DFA-9A15-486C-8E61-49E3CEBF9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slide" Target="../slides/slide17.xml"/><Relationship Id="rId8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3F8-04AA-4B0B-80C6-4CED26EC29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Мари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FABD-B86E-48F8-886F-E68A6D8D2D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143D-6411-4D3B-BC06-ADD30D3B2D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CB7C-28D2-4BCE-BDE6-6AE89368F6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D5C8-77E5-47F0-AF7A-9A11410992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свои возможности.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. Монтессори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Дома ребенк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   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BE1B-0270-4930-B4C2-D7F41EBD82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4B26-5FBA-403E-ACB3-04E0ECFA59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Двигатель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Мотушками»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называла катушки, на которые намотаны цветные нитки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Группе детей можно предложить подвижную игру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«Найди пару»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BA47-D357-4755-AB0D-2611118226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604-2D4F-4FFF-97E6-7DB5CD0720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Интернет-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 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200"/>
            </a:b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средней школе № 5, г. Петрозавод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- о ДОУ № 99 «Голубая важе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ozon.ru/context/detail/id/869624/?partner=englang  – «Вижу, слышу, чувствую», уроки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metodika-montessory.narod.ru/zaniatia.htm   - занятия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rebenok.com/info/study/montessori_group/  - занятия, посо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parent.fio.ru/news.php?n=15456&amp;c=308  – о школах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defacto.examen.ru/db/ExamineBase/catdoc_id/D469A977E8228C9AC3256B49003C61F2/rootid/9327995FB7A6D40FC3256A02002CE0D5/defacto.html  - особенности ис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www.montessori-center.ru/ - сайт о Монтессори для родителей и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http://school.edu.ru/catalog.asp?cat_ob_no=222&amp;oll.ob no to=   - игры по методике Монтесс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C1B9-1CF3-4209-B35E-84863441EA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Система Марии Монтессори,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ым отличием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CC14-15CC-4F75-9172-C3A6455232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3346-CAC7-44D6-B875-A0DB480199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сновная идея метода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7E13-99E2-419D-AEB0-BCBA35E759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Монтессори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00D2-7663-4F0B-AD7A-7AC3A07468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етодика Марии Монтесс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областей развит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Жизненная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Сенсор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темат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Естественнонаучное и космическ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Двигательное разви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A8ED-BAC0-4C12-88C3-F6FEFC3ED6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7781-6847-4D7F-B4FE-EC76686E57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Материал для рисования, штрих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арточки с шершавыми бук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6DFB-2A17-45BB-8255-C3CAF615C4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Языков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Чтение текста. Дефини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частей речи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Анализ предложений. Симв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CF4-480E-4827-9B6D-7BCF0D3A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8C4-5163-4A70-BD5E-72C118E3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C0D-6D7F-4337-A23E-AA98788C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3FF-F4FC-4876-9A78-D8329ED9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D82-4D2F-40B9-9033-C120F0A1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6C2-F594-47CF-810D-4E4C799F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771-BA1D-4F22-8600-25F3E50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508-2BAD-4806-A163-4F14EB3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C63-B7AE-4A77-98E9-D354E38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8B5-4F6D-4327-9A27-8F3AFF1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FAB-C911-49A6-979E-3942FF2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81F-62BB-4820-8848-092E7B42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802E-C5D8-43CA-A72D-042A635DE2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" Target="slide6.xml"/><Relationship Id="rId6" Type="http://schemas.openxmlformats.org/officeDocument/2006/relationships/image" Target="../media/image33.gif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" Target="slide6.xml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.edu.ru/catalog.asp?cat_ob_no=222&amp;ob_no=12287&amp;oll.ob_no_to=" TargetMode="External"/><Relationship Id="rId2" Type="http://schemas.openxmlformats.org/officeDocument/2006/relationships/hyperlink" Target="http://biblio.narod.ru/gyrnal/montes/mont_sod.htm" TargetMode="External"/><Relationship Id="rId3" Type="http://schemas.openxmlformats.org/officeDocument/2006/relationships/hyperlink" Target="http://school.edu.ru/catalog.asp?cat_ob_no=222&amp;ob_no=12283&amp;oll.ob_no_to=" TargetMode="External"/><Relationship Id="rId4" Type="http://schemas.openxmlformats.org/officeDocument/2006/relationships/hyperlink" Target="http://karmashov.perm.ru/montesor.htm" TargetMode="External"/><Relationship Id="rId5" Type="http://schemas.openxmlformats.org/officeDocument/2006/relationships/hyperlink" Target="http://razinov.psychology.onego.ru/experiment/5.html" TargetMode="External"/><Relationship Id="rId6" Type="http://schemas.openxmlformats.org/officeDocument/2006/relationships/hyperlink" Target="http://razinov.psychology.onego.ru/experiment/montes.html" TargetMode="External"/><Relationship Id="rId7" Type="http://schemas.openxmlformats.org/officeDocument/2006/relationships/hyperlink" Target="http://www.ozon.ru/context/detail/id/869624/?partner=englang" TargetMode="External"/><Relationship Id="rId8" Type="http://schemas.openxmlformats.org/officeDocument/2006/relationships/hyperlink" Target="http://metodika-montessory.narod.ru/zaniatia.htm" TargetMode="External"/><Relationship Id="rId9" Type="http://schemas.openxmlformats.org/officeDocument/2006/relationships/hyperlink" Target="http://www.rebenok.com/info/study/montessori_group/" TargetMode="External"/><Relationship Id="rId10" Type="http://schemas.openxmlformats.org/officeDocument/2006/relationships/hyperlink" Target="http://parent.fio.ru/news.php?n=15456&amp;c=308" TargetMode="External"/><Relationship Id="rId11" Type="http://schemas.openxmlformats.org/officeDocument/2006/relationships/hyperlink" Target="http://defacto.examen.ru/db/ExamineBase/catdoc_id/D469A977E8228C9AC3256B49003C61F2/rootid/9327995FB7A6D40FC3256A02002CE0D5/defacto.html" TargetMode="External"/><Relationship Id="rId12" Type="http://schemas.openxmlformats.org/officeDocument/2006/relationships/hyperlink" Target="http://www.montessori-center.ru/" TargetMode="External"/><Relationship Id="rId13" Type="http://schemas.openxmlformats.org/officeDocument/2006/relationships/hyperlink" Target="http://school.edu.ru/catalog.asp?cat_ob_no=222&amp;oll.ob_no_to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8.xml"/><Relationship Id="rId3" Type="http://schemas.openxmlformats.org/officeDocument/2006/relationships/slide" Target="slide28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802"/>
          <p:cNvPicPr/>
          <p:nvPr/>
        </p:nvPicPr>
        <p:blipFill>
          <a:blip r:embed="rId1"/>
          <a:stretch/>
        </p:blipFill>
        <p:spPr>
          <a:xfrm>
            <a:off x="3059280" y="2205000"/>
            <a:ext cx="2803320" cy="4248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12"/>
          <p:cNvSpPr txBox="1"/>
          <p:nvPr/>
        </p:nvSpPr>
        <p:spPr>
          <a:xfrm>
            <a:off x="826920" y="549360"/>
            <a:ext cx="7867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Марии Монтессори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69320" y="1700280"/>
            <a:ext cx="3797280" cy="3682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Помоги мне сделать это сам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11. track111.wav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12280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305"/>
          <p:cNvPicPr/>
          <p:nvPr/>
        </p:nvPicPr>
        <p:blipFill>
          <a:blip r:embed="rId1"/>
          <a:stretch/>
        </p:blipFill>
        <p:spPr>
          <a:xfrm>
            <a:off x="1763640" y="1341360"/>
            <a:ext cx="5688000" cy="38289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6" name="Picture 5" descr="306"/>
          <p:cNvPicPr/>
          <p:nvPr/>
        </p:nvPicPr>
        <p:blipFill>
          <a:blip r:embed="rId2"/>
          <a:stretch/>
        </p:blipFill>
        <p:spPr>
          <a:xfrm>
            <a:off x="2700360" y="1628640"/>
            <a:ext cx="4932360" cy="343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7" name="Picture 6" descr="310"/>
          <p:cNvPicPr/>
          <p:nvPr/>
        </p:nvPicPr>
        <p:blipFill>
          <a:blip r:embed="rId3"/>
          <a:stretch/>
        </p:blipFill>
        <p:spPr>
          <a:xfrm>
            <a:off x="1619280" y="2924280"/>
            <a:ext cx="5257800" cy="3371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8" name="Picture 8" descr="pic5_jpg"/>
          <p:cNvPicPr/>
          <p:nvPr/>
        </p:nvPicPr>
        <p:blipFill>
          <a:blip r:embed="rId4"/>
          <a:stretch/>
        </p:blipFill>
        <p:spPr>
          <a:xfrm>
            <a:off x="3276720" y="1413000"/>
            <a:ext cx="3112920" cy="46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9" name="Picture 11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6165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16720" cy="1152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5699160" cy="4680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нтральная идея космического воспитания – познание человека во всем многообразии и сложности, его места в культуре, истории, природе. Микрокосмос – это я, мой дом, моя мама, моя школа. Макрокосмос – тысячи других прекрасных жизней, имеющих такие же права, как и 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рия Монтессори показала, как работая с детьми, выучить малыша быть наблюдательным, восхищаться даже самой незначительной частичкой мира, будь то цветок или муравейник, не только понимать гармонию природы, но и беречь ее, работать с книгами, выражать свои мысли разными способами: с помощью письма, речи, живописи, скульптуры, жестов. Сделать так, чтобы размышления о мире и жизни стали ежедневной привыч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ебенок получает первые знания о физике, химии, биологии, географии, астрономии и многом друг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_"/>
          <p:cNvPicPr/>
          <p:nvPr/>
        </p:nvPicPr>
        <p:blipFill>
          <a:blip r:embed="rId1"/>
          <a:stretch/>
        </p:blipFill>
        <p:spPr>
          <a:xfrm>
            <a:off x="6516720" y="1628640"/>
            <a:ext cx="2274840" cy="171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14" name="Picture 9" descr="23_"/>
          <p:cNvPicPr/>
          <p:nvPr/>
        </p:nvPicPr>
        <p:blipFill>
          <a:blip r:embed="rId2"/>
          <a:stretch/>
        </p:blipFill>
        <p:spPr>
          <a:xfrm>
            <a:off x="6659640" y="4653000"/>
            <a:ext cx="2141640" cy="160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15" name="Text Box 11"/>
          <p:cNvSpPr/>
          <p:nvPr/>
        </p:nvSpPr>
        <p:spPr>
          <a:xfrm>
            <a:off x="6876360" y="3716280"/>
            <a:ext cx="17398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Средняя школа № 5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2" descr="world"/>
          <p:cNvPicPr/>
          <p:nvPr/>
        </p:nvPicPr>
        <p:blipFill>
          <a:blip r:embed="rId3"/>
          <a:stretch/>
        </p:blipFill>
        <p:spPr>
          <a:xfrm>
            <a:off x="468360" y="40464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24000" y="404280"/>
            <a:ext cx="5267520" cy="1103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Естественнонаучное и космическ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Picture 4" descr="602"/>
          <p:cNvPicPr/>
          <p:nvPr/>
        </p:nvPicPr>
        <p:blipFill>
          <a:blip r:embed="rId1"/>
          <a:stretch/>
        </p:blipFill>
        <p:spPr>
          <a:xfrm>
            <a:off x="468360" y="1773360"/>
            <a:ext cx="3311640" cy="2514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0" name="Picture 5" descr="601"/>
          <p:cNvPicPr/>
          <p:nvPr/>
        </p:nvPicPr>
        <p:blipFill>
          <a:blip r:embed="rId2"/>
          <a:stretch/>
        </p:blipFill>
        <p:spPr>
          <a:xfrm>
            <a:off x="5148360" y="1773360"/>
            <a:ext cx="3600360" cy="299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1" name="Picture 7" descr="maps"/>
          <p:cNvPicPr/>
          <p:nvPr/>
        </p:nvPicPr>
        <p:blipFill>
          <a:blip r:embed="rId3"/>
          <a:stretch/>
        </p:blipFill>
        <p:spPr>
          <a:xfrm>
            <a:off x="324000" y="4149720"/>
            <a:ext cx="1962000" cy="2158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2" name="Picture 8" descr="pic12_jpg"/>
          <p:cNvPicPr/>
          <p:nvPr/>
        </p:nvPicPr>
        <p:blipFill>
          <a:blip r:embed="rId4"/>
          <a:stretch/>
        </p:blipFill>
        <p:spPr>
          <a:xfrm>
            <a:off x="2556000" y="3429000"/>
            <a:ext cx="1962000" cy="295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3" name="Picture 9" descr="09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8360" y="609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5_02_3_JPG"/>
          <p:cNvPicPr/>
          <p:nvPr/>
        </p:nvPicPr>
        <p:blipFill>
          <a:blip r:embed="rId7"/>
          <a:stretch/>
        </p:blipFill>
        <p:spPr>
          <a:xfrm>
            <a:off x="5003640" y="3645000"/>
            <a:ext cx="2665440" cy="2590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5" name="Picture 13" descr="tn_ak_19"/>
          <p:cNvPicPr/>
          <p:nvPr/>
        </p:nvPicPr>
        <p:blipFill>
          <a:blip r:embed="rId8"/>
          <a:stretch/>
        </p:blipFill>
        <p:spPr>
          <a:xfrm>
            <a:off x="2556000" y="2205000"/>
            <a:ext cx="4572000" cy="2835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87280" y="476280"/>
            <a:ext cx="496908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Picture 10" descr="child2"/>
          <p:cNvPicPr/>
          <p:nvPr/>
        </p:nvPicPr>
        <p:blipFill>
          <a:blip r:embed="rId1"/>
          <a:stretch/>
        </p:blipFill>
        <p:spPr>
          <a:xfrm>
            <a:off x="7164360" y="4724280"/>
            <a:ext cx="1278000" cy="1584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3" descr="d-033_tn"/>
          <p:cNvPicPr/>
          <p:nvPr/>
        </p:nvPicPr>
        <p:blipFill>
          <a:blip r:embed="rId2"/>
          <a:stretch/>
        </p:blipFill>
        <p:spPr>
          <a:xfrm>
            <a:off x="250920" y="2565360"/>
            <a:ext cx="1800000" cy="1567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Text Box 16"/>
          <p:cNvSpPr/>
          <p:nvPr/>
        </p:nvSpPr>
        <p:spPr>
          <a:xfrm>
            <a:off x="2195640" y="1413000"/>
            <a:ext cx="6438600" cy="28947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вигательные упражнения развивают ребенка физичес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помогают ему почувствовать свое тело и осознат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вои возможности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изическая свобода - первостепенная потребность детств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. Монтессор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равнивает школьные парты с ортопедической повязкой на позвоночник ребенка, которая калечит его физическое и психическое здоровье. Создание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Дома ребе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она начала с того, что продумала условия сохранения двигательной свободы детей, при разработке методик обучения особенно учитывались возможности их двигательной активности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8" descr="montes1"/>
          <p:cNvPicPr/>
          <p:nvPr/>
        </p:nvPicPr>
        <p:blipFill>
          <a:blip r:embed="rId3"/>
          <a:stretch/>
        </p:blipFill>
        <p:spPr>
          <a:xfrm>
            <a:off x="1332000" y="4869000"/>
            <a:ext cx="4752720" cy="1414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2" name="Picture 21" descr="spo-badminton"/>
          <p:cNvPicPr/>
          <p:nvPr/>
        </p:nvPicPr>
        <p:blipFill>
          <a:blip r:embed="rId4"/>
          <a:stretch/>
        </p:blipFill>
        <p:spPr>
          <a:xfrm>
            <a:off x="611280" y="620640"/>
            <a:ext cx="1036440" cy="1295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519444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Picture 9" descr="m1"/>
          <p:cNvPicPr/>
          <p:nvPr/>
        </p:nvPicPr>
        <p:blipFill>
          <a:blip r:embed="rId1"/>
          <a:stretch/>
        </p:blipFill>
        <p:spPr>
          <a:xfrm>
            <a:off x="2843280" y="3860640"/>
            <a:ext cx="3600360" cy="270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4" descr="domik2"/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2104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7" name="Picture 11" descr="m2"/>
          <p:cNvPicPr/>
          <p:nvPr/>
        </p:nvPicPr>
        <p:blipFill>
          <a:blip r:embed="rId3"/>
          <a:stretch/>
        </p:blipFill>
        <p:spPr>
          <a:xfrm>
            <a:off x="5796000" y="1557360"/>
            <a:ext cx="2736720" cy="205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4751280" cy="816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вигательн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2802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Мотушками»</a:t>
            </a: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 Монтессори называла катушки, на которые намотаны цветные нитки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 корзинку кладутся катушки с цветными нитками, из которых можно составлять пары по цвету. На первом этапе работы в набор входят две катушки красного цвета, две синего и две желтого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едагог показывает малышу, как можно составить из катушек пары. Например, можно поставить одну красную катушку на другую, а затем достроить столбик двумя синими катушками и двумя желтыми. Ребенок пробует повторить это построение, сравнивает и сортирует катушки по признаку цвета и именно на этом концентрирует свое внимание. 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руппе детей можно предложить подвижную игру </a:t>
            </a:r>
            <a:r>
              <a:rPr b="1" lang="ru-RU" sz="1600" spc="-1" strike="noStrike">
                <a:solidFill>
                  <a:srgbClr val="003366"/>
                </a:solidFill>
                <a:latin typeface="Tahoma"/>
              </a:rPr>
              <a:t>«Найди пару»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и произвольно движутся по группе. По условному сигналу они должны быстро отыскать свою «цветную» пару, взяться за руки и построиться на линии (в кругу). Пара, оказавшаяся последней, выбывает из игры. Игра продолжается до тех пор, пока не останется одна пара победителей.</a:t>
            </a:r>
            <a:br>
              <a:rPr sz="1600"/>
            </a:b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озможен вариант с использованием «домиков». На полу разложены обручи (или веревочные кольца). Партнеры должны не только отыскать друг друга, но и вовремя занять свободный дом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(1)"/>
          <p:cNvPicPr/>
          <p:nvPr/>
        </p:nvPicPr>
        <p:blipFill>
          <a:blip r:embed="rId1"/>
          <a:stretch/>
        </p:blipFill>
        <p:spPr>
          <a:xfrm>
            <a:off x="179280" y="260280"/>
            <a:ext cx="1584360" cy="1254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2" name="Picture 6" descr="0(3)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1177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3" name="Picture 8" descr="0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2720" y="602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48000" y="2997000"/>
            <a:ext cx="5492880" cy="3168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номен педагогики Монтессори заключается в ее безграничной вере в природу ребенка, в ее стремлении исключить какое-либо авторитарное давление на формирующегося человека, а также в ориентации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ую, самостоятельную, активную личность! 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Picture 5" descr="titul_maria_montessori1"/>
          <p:cNvPicPr/>
          <p:nvPr/>
        </p:nvPicPr>
        <p:blipFill>
          <a:blip r:embed="rId1"/>
          <a:stretch/>
        </p:blipFill>
        <p:spPr>
          <a:xfrm>
            <a:off x="3419640" y="476280"/>
            <a:ext cx="2520720" cy="224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8" descr="0(2)"/>
          <p:cNvPicPr/>
          <p:nvPr/>
        </p:nvPicPr>
        <p:blipFill>
          <a:blip r:embed="rId2"/>
          <a:stretch/>
        </p:blipFill>
        <p:spPr>
          <a:xfrm>
            <a:off x="395280" y="2924280"/>
            <a:ext cx="2514600" cy="316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0" descr="0(1)"/>
          <p:cNvPicPr/>
          <p:nvPr/>
        </p:nvPicPr>
        <p:blipFill>
          <a:blip r:embed="rId3"/>
          <a:stretch/>
        </p:blipFill>
        <p:spPr>
          <a:xfrm>
            <a:off x="6732720" y="476280"/>
            <a:ext cx="194148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2" descr="14"/>
          <p:cNvPicPr/>
          <p:nvPr/>
        </p:nvPicPr>
        <p:blipFill>
          <a:blip r:embed="rId4"/>
          <a:stretch/>
        </p:blipFill>
        <p:spPr>
          <a:xfrm>
            <a:off x="900000" y="83664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4176720" cy="528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Интернет-ресурс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256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"/>
              </a:rPr>
              <a:t>Педагогическая система Монтессори: характеристика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Центр Монтессори (сведения о деятельности центра и его миссии). Актуальные педагогические проблемы воспитания и обучения детей. Понятие "творческий ребенок": развитие творческих способностей, результаты творчества, игра в творчество, перечень рекомендуемой литературы. Подготовка кадров для дошкольных учреждений.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biblio.narod.ru/gyrnal/montes/mont_sod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3"/>
              </a:rPr>
              <a:t>Методика Марии Монтессори</a:t>
            </a:r>
            <a:br>
              <a:rPr sz="1400"/>
            </a:b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лный текст методики развития детей итальянского педагога-дефектолога. Материалы для развития чувств, мышления, речи. Имеется предисловие с описанием современной версии методики. </a:t>
            </a:r>
            <a:br>
              <a:rPr sz="1400"/>
            </a:b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4"/>
              </a:rPr>
              <a:t>http://karmashov.perm.ru/montesor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5"/>
              </a:rPr>
              <a:t>http://razinov.psychology.onego.ru/experiment/5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средней школе № 5, 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6"/>
              </a:rPr>
              <a:t>http://razinov.psychology.onego.ru/experiment/montes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 ДОУ № 99 «Голубая важен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7"/>
              </a:rPr>
              <a:t>http://www.ozon.ru/context/detail/id/869624/?partner=englang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«Вижу, слышу, чувствую», уроки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8"/>
              </a:rPr>
              <a:t>http://metodika-montessory.narod.ru/zaniatia.htm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- занятия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9"/>
              </a:rPr>
              <a:t>http://www.rebenok.com/info/study/montessori_group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занятия, пособ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0"/>
              </a:rPr>
              <a:t>http://parent.fio.ru/news.php?n=15456&amp;c=308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– о школах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1"/>
              </a:rPr>
              <a:t>http://defacto.examen.ru/db/ExamineBase/catdoc_id/D469A977E8228C9AC3256B49003C61F2/rootid/9327995FB7A6D40FC3256A02002CE0D5/defacto.html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- особенности исполь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дидактических материалов в системе Монтессор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2"/>
              </a:rPr>
              <a:t>http://www.montessori-center.ru/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сайт о Монтессори для родителей и педагог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ccff"/>
                </a:solidFill>
                <a:uFillTx/>
                <a:latin typeface="Arial"/>
                <a:hlinkClick r:id="rId13"/>
              </a:rPr>
              <a:t>http://school.edu.ru/catalog.asp?cat_ob_no=222&amp;oll.ob no to=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- игры по методике 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4932360" y="4653000"/>
            <a:ext cx="287280" cy="360360"/>
          </a:xfrm>
          <a:custGeom>
            <a:avLst/>
            <a:gdLst>
              <a:gd name="textAreaLeft" fmla="*/ 0 w 287280"/>
              <a:gd name="textAreaRight" fmla="*/ 103680 w 287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80520"/>
            <a:ext cx="611964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87280" y="1981080"/>
            <a:ext cx="5699160" cy="38959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Система Марии Монтессори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тальянского педагога-гуманиста (1870-1952) уже давно пользуется мировым признанием и получила самое широкое распространение. Педагогика Монтессори - замечательный пример эффективной практической реализации идей свободного воспит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сновным отличием метода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Монтессори от традиционных детских садов является отношение к ребенку как к уникальной, неповторимой личности, со своим собственным планом развития, своими собственными способами и сроками освоения окружающего ми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0" descr="flower"/>
          <p:cNvPicPr/>
          <p:nvPr/>
        </p:nvPicPr>
        <p:blipFill>
          <a:blip r:embed="rId1"/>
          <a:stretch/>
        </p:blipFill>
        <p:spPr>
          <a:xfrm>
            <a:off x="395280" y="2492280"/>
            <a:ext cx="1987560" cy="288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633744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3280" y="2133360"/>
            <a:ext cx="4038480" cy="3392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онтессори была убеждена, что практически любой ребенок является нормальным человеком, способным открыть себя в активной деятельности. Эта деятельность, направленная на освоение окружающего его мира, на вхождение в культуру, созданную предшествующими поколениями, приводила к реализации заложенного в формирующейся личности потенциала, к полноценному физическому и духовному развит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12" descr="item(1)"/>
          <p:cNvPicPr/>
          <p:nvPr/>
        </p:nvPicPr>
        <p:blipFill>
          <a:blip r:embed="rId1"/>
          <a:stretch/>
        </p:blipFill>
        <p:spPr>
          <a:xfrm>
            <a:off x="7164360" y="4292640"/>
            <a:ext cx="177948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0" name="Picture 13" descr="pic8_jpg"/>
          <p:cNvPicPr/>
          <p:nvPr/>
        </p:nvPicPr>
        <p:blipFill>
          <a:blip r:embed="rId2"/>
          <a:stretch/>
        </p:blipFill>
        <p:spPr>
          <a:xfrm>
            <a:off x="7236000" y="1773360"/>
            <a:ext cx="1538280" cy="230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1" name="Picture 16" descr="foto0048"/>
          <p:cNvPicPr/>
          <p:nvPr/>
        </p:nvPicPr>
        <p:blipFill>
          <a:blip r:embed="rId3"/>
          <a:stretch/>
        </p:blipFill>
        <p:spPr>
          <a:xfrm>
            <a:off x="395280" y="4724280"/>
            <a:ext cx="2303640" cy="1727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2" name="Picture 18" descr="foto0050"/>
          <p:cNvPicPr/>
          <p:nvPr/>
        </p:nvPicPr>
        <p:blipFill>
          <a:blip r:embed="rId4"/>
          <a:stretch/>
        </p:blipFill>
        <p:spPr>
          <a:xfrm>
            <a:off x="449280" y="1773360"/>
            <a:ext cx="2052720" cy="273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360" y="380520"/>
            <a:ext cx="5975280" cy="8874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Основная идея метода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Монтессори заключается в стимулировании ребенка к саморазвитию, поместив его в подготовленную среду, имеющую четкую логику построения и соответствующую психологическим потребностям ребен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Задачей же воспитателя или учителя является помочь ребенку организовать свою деятельность в этой среде, пойти свои собственным, уникальным путем, реализовать свой творческий потенц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17" descr="foto0042"/>
          <p:cNvPicPr/>
          <p:nvPr/>
        </p:nvPicPr>
        <p:blipFill>
          <a:blip r:embed="rId1"/>
          <a:stretch/>
        </p:blipFill>
        <p:spPr>
          <a:xfrm>
            <a:off x="6084720" y="1557360"/>
            <a:ext cx="2808360" cy="210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7" name="Picture 18" descr="children"/>
          <p:cNvPicPr/>
          <p:nvPr/>
        </p:nvPicPr>
        <p:blipFill>
          <a:blip r:embed="rId2"/>
          <a:stretch/>
        </p:blipFill>
        <p:spPr>
          <a:xfrm>
            <a:off x="4716360" y="3357720"/>
            <a:ext cx="2276640" cy="15332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68" name="Picture 20" descr="school13_jpg"/>
          <p:cNvPicPr/>
          <p:nvPr/>
        </p:nvPicPr>
        <p:blipFill>
          <a:blip r:embed="rId3"/>
          <a:stretch/>
        </p:blipFill>
        <p:spPr>
          <a:xfrm>
            <a:off x="6084720" y="4653000"/>
            <a:ext cx="2737080" cy="181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4321080" cy="647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онтессори-класс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5013000"/>
            <a:ext cx="8229600" cy="129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В методе Монтессори нет классно-урочной системы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вместо школьных парт - легкие переносные столы и стулья + коврики, на которых занимаются на полу. Монтессори-учитель не является центром класса, как в традиционной школе. Он не сидит за столом, а проводит время в индивидуальных занятиях с детьми.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онтессори-учитель вмешивается в деятельность ребенка только тогда, когда это необходим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zal1"/>
          <p:cNvPicPr/>
          <p:nvPr/>
        </p:nvPicPr>
        <p:blipFill>
          <a:blip r:embed="rId1"/>
          <a:stretch/>
        </p:blipFill>
        <p:spPr>
          <a:xfrm>
            <a:off x="395280" y="1484280"/>
            <a:ext cx="3527280" cy="2273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3" name="Picture 8" descr="table"/>
          <p:cNvPicPr/>
          <p:nvPr/>
        </p:nvPicPr>
        <p:blipFill>
          <a:blip r:embed="rId2"/>
          <a:stretch/>
        </p:blipFill>
        <p:spPr>
          <a:xfrm>
            <a:off x="6516720" y="1268280"/>
            <a:ext cx="2286000" cy="270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4" name="Picture 9" descr="foto0029"/>
          <p:cNvPicPr/>
          <p:nvPr/>
        </p:nvPicPr>
        <p:blipFill>
          <a:blip r:embed="rId3"/>
          <a:stretch/>
        </p:blipFill>
        <p:spPr>
          <a:xfrm>
            <a:off x="4140360" y="1773360"/>
            <a:ext cx="2160360" cy="287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380880"/>
            <a:ext cx="6048360" cy="960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Методика Марии Монтессор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дготовленная среда имеет четкую логику построения и содержит все необходимые материалы из следующих 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бластей развит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Жизненная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ракт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енсорн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Математическ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Языков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Естественнонаучное и космическое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Двигательное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развит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9" descr="montes"/>
          <p:cNvPicPr/>
          <p:nvPr/>
        </p:nvPicPr>
        <p:blipFill>
          <a:blip r:embed="rId7"/>
          <a:stretch/>
        </p:blipFill>
        <p:spPr>
          <a:xfrm>
            <a:off x="5076720" y="4076640"/>
            <a:ext cx="3240360" cy="2079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79" name="Picture 17" descr="0(2)"/>
          <p:cNvPicPr/>
          <p:nvPr/>
        </p:nvPicPr>
        <p:blipFill>
          <a:blip r:embed="rId8"/>
          <a:stretch/>
        </p:blipFill>
        <p:spPr>
          <a:xfrm>
            <a:off x="5067360" y="2039760"/>
            <a:ext cx="3200400" cy="1864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0" name="Text Box 18"/>
          <p:cNvSpPr/>
          <p:nvPr/>
        </p:nvSpPr>
        <p:spPr>
          <a:xfrm>
            <a:off x="6519960" y="6308640"/>
            <a:ext cx="216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ец презент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194440" cy="7444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43280" y="1628280"/>
            <a:ext cx="3672000" cy="453708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Малышу как носителю языка необходимы материалы, служащие языковому развитию, без которого невозможен полноценный интеллектуальный рост. Здесь малыш получает возможность расширить свой словарный запас, познакомиться с буквами, обводя пальчиком шершавые буквы и рисуя на манной крупе, а также научиться составлять слова с помощью подвижного алфави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17" descr="book1"/>
          <p:cNvPicPr/>
          <p:nvPr/>
        </p:nvPicPr>
        <p:blipFill>
          <a:blip r:embed="rId1"/>
          <a:stretch/>
        </p:blipFill>
        <p:spPr>
          <a:xfrm>
            <a:off x="7236000" y="1341360"/>
            <a:ext cx="1511280" cy="13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4106"/>
          <p:cNvPicPr/>
          <p:nvPr/>
        </p:nvPicPr>
        <p:blipFill>
          <a:blip r:embed="rId2"/>
          <a:stretch/>
        </p:blipFill>
        <p:spPr>
          <a:xfrm>
            <a:off x="6732720" y="3141720"/>
            <a:ext cx="2160360" cy="3241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6" name="Picture 26" descr="308"/>
          <p:cNvPicPr/>
          <p:nvPr/>
        </p:nvPicPr>
        <p:blipFill>
          <a:blip r:embed="rId3"/>
          <a:stretch/>
        </p:blipFill>
        <p:spPr>
          <a:xfrm>
            <a:off x="250920" y="1197000"/>
            <a:ext cx="2305080" cy="1538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87" name="Picture 28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066760" cy="3095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24360" y="333360"/>
            <a:ext cx="4330800" cy="7207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19280" y="1196640"/>
            <a:ext cx="5338440" cy="504036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исьмо и чтение стоят близко друг от друга. Но М. Монтессори замечает, что это два различных процесса. Письмо имеет психомоторный характер и предшествует чтению, в основе которого более сложная психическая деятельность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, позволяющий детям легко овладеть техникой письма, состоит из трех основных групп и многочисленных упражнени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Материал для рисования, штрихов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арточки с шершавыми букв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Подвижный алфавит нескольких вид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етям, стремящимся тренировать себя в уверенном письме, можно предложить различные варианты прописей и шрифтовых карточе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ебенок приходит к тому, что процесс чтения – это процесс работы со звуковыми символ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1" descr="03"/>
          <p:cNvPicPr/>
          <p:nvPr/>
        </p:nvPicPr>
        <p:blipFill>
          <a:blip r:embed="rId1"/>
          <a:stretch/>
        </p:blipFill>
        <p:spPr>
          <a:xfrm>
            <a:off x="2050920" y="692280"/>
            <a:ext cx="1224000" cy="1125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4_jpg"/>
          <p:cNvPicPr/>
          <p:nvPr/>
        </p:nvPicPr>
        <p:blipFill>
          <a:blip r:embed="rId2"/>
          <a:stretch/>
        </p:blipFill>
        <p:spPr>
          <a:xfrm>
            <a:off x="324000" y="189000"/>
            <a:ext cx="1533240" cy="2305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3" name="Picture 16" descr="309"/>
          <p:cNvPicPr/>
          <p:nvPr/>
        </p:nvPicPr>
        <p:blipFill>
          <a:blip r:embed="rId3"/>
          <a:stretch/>
        </p:blipFill>
        <p:spPr>
          <a:xfrm>
            <a:off x="324000" y="4797360"/>
            <a:ext cx="2736720" cy="1755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94" name="Picture 18" descr="3_08_2%20(russian)_JPG"/>
          <p:cNvPicPr/>
          <p:nvPr/>
        </p:nvPicPr>
        <p:blipFill>
          <a:blip r:embed="rId4"/>
          <a:stretch/>
        </p:blipFill>
        <p:spPr>
          <a:xfrm>
            <a:off x="1116000" y="2708280"/>
            <a:ext cx="1717560" cy="1728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4680000" cy="60012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зыковое развит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392720" cy="554364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Дидактический материал для обучения чтению состоит из нескольких частей. Логика его предъявления ребенку проста: от конкретного, ощутимого – к абстрактному, к символам. Одновременно и всегда соблюдается принцип расширения запаса слов ребенка, а также их классификация и упорядочивание, объединение в группы, анализ и синтез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Весь материал делится на несколько групп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Классификация слов и предметные игры со зву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Розовая серия – материал для первого чт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Голубая серия – материал для правильного чтения трудных сл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Чтение текста. Дефини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частей речи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ahoma"/>
              </a:rPr>
              <a:t>Анализ предложений. Симво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montes4_"/>
          <p:cNvPicPr/>
          <p:nvPr/>
        </p:nvPicPr>
        <p:blipFill>
          <a:blip r:embed="rId1"/>
          <a:stretch/>
        </p:blipFill>
        <p:spPr>
          <a:xfrm>
            <a:off x="6084720" y="3645000"/>
            <a:ext cx="1908360" cy="2232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5651640" y="6093000"/>
            <a:ext cx="2808000" cy="520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ДОУ № 99 «Голубая важенк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ahoma"/>
              </a:rPr>
              <a:t>г. Петрозавод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reading"/>
          <p:cNvPicPr/>
          <p:nvPr/>
        </p:nvPicPr>
        <p:blipFill>
          <a:blip r:embed="rId2"/>
          <a:stretch/>
        </p:blipFill>
        <p:spPr>
          <a:xfrm>
            <a:off x="179280" y="189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3"/>
          <p:cNvPicPr/>
          <p:nvPr/>
        </p:nvPicPr>
        <p:blipFill>
          <a:blip r:embed="rId3"/>
          <a:stretch/>
        </p:blipFill>
        <p:spPr>
          <a:xfrm>
            <a:off x="7093080" y="620640"/>
            <a:ext cx="1892160" cy="280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02" name="Picture 1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641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19:29:53Z</dcterms:created>
  <dc:creator>Вера</dc:creator>
  <dc:description/>
  <dc:language>en-US</dc:language>
  <cp:lastModifiedBy>LEGION</cp:lastModifiedBy>
  <dcterms:modified xsi:type="dcterms:W3CDTF">2015-01-26T14:03:37Z</dcterms:modified>
  <cp:revision>94</cp:revision>
  <dc:subject/>
  <dc:title>Методика Марии Монтессо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